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17C-2939-412E-875C-0B101F19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C77-D475-4D75-A2FC-5279801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CAD-080D-4FF2-B5AF-8AFA002E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12D-2BFB-4F7A-8B2D-FFCFC116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C1A-4E1F-4F4E-8991-2474C81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A61-C0DC-42F2-9F53-3CA3BBCA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23A-C86A-4987-87A6-9F9062BF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4C6-A74C-4EDC-97ED-9CCA0C8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449-39DE-4447-BC20-9AAADB0A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C36-8862-4869-B30E-5622D92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DC6-C38A-4238-95AD-674B2F3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1DF-3568-474C-BBB8-E322559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669900"/>
            </a:gs>
            <a:gs pos="100000">
              <a:srgbClr val="ff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41E-147A-4305-9FFF-23DBDC436FE4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s mejores fotos del 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98720" y="1700280"/>
            <a:ext cx="5146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Missione è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55840" y="61182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Dom Hélder Câmar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angerous_Weat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729160" y="119700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dd52b"/>
                </a:solidFill>
                <a:latin typeface="Comic Sans MS"/>
              </a:rPr>
              <a:t>e volare lassù nel ciel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" descr="uccelli in volo bianchi"/>
          <p:cNvPicPr/>
          <p:nvPr/>
        </p:nvPicPr>
        <p:blipFill>
          <a:blip r:embed="rId2"/>
          <a:stretch/>
        </p:blipFill>
        <p:spPr>
          <a:xfrm>
            <a:off x="2333520" y="33336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uccelli in volo"/>
          <p:cNvPicPr/>
          <p:nvPr/>
        </p:nvPicPr>
        <p:blipFill>
          <a:blip r:embed="rId3"/>
          <a:stretch/>
        </p:blipFill>
        <p:spPr>
          <a:xfrm>
            <a:off x="4284720" y="620640"/>
            <a:ext cx="4476600" cy="8859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549160" y="5299200"/>
            <a:ext cx="40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dd52b"/>
                </a:solidFill>
                <a:latin typeface="Comic Sans MS"/>
              </a:rPr>
              <a:t>allora missione è partire</a:t>
            </a:r>
            <a:br>
              <a:rPr sz="2400"/>
            </a:br>
            <a:r>
              <a:rPr b="1" lang="it-IT" sz="2400" spc="-1" strike="noStrike">
                <a:solidFill>
                  <a:srgbClr val="fdd52b"/>
                </a:solidFill>
                <a:latin typeface="Comic Sans MS"/>
              </a:rPr>
              <a:t>fino ai confini del mon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Camara2"/>
          <p:cNvPicPr/>
          <p:nvPr/>
        </p:nvPicPr>
        <p:blipFill>
          <a:blip r:embed="rId2"/>
          <a:stretch/>
        </p:blipFill>
        <p:spPr>
          <a:xfrm>
            <a:off x="1258920" y="1700280"/>
            <a:ext cx="1809720" cy="213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 rot="15422400">
            <a:off x="2830680" y="3357000"/>
            <a:ext cx="5461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lder Cama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99520" y="5157720"/>
            <a:ext cx="311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… </a:t>
            </a: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e avere il coragg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di amare senza riserv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	</a:t>
            </a: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     </a:t>
            </a:r>
            <a:r>
              <a:rPr b="1" lang="it-IT" sz="2000" spc="-1" strike="noStrike">
                <a:solidFill>
                  <a:srgbClr val="fdd52b"/>
                </a:solidFill>
                <a:latin typeface="Bradley Hand ITC"/>
              </a:rPr>
              <a:t>Fran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72680" y="65404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ttobre 20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40800" y="5227920"/>
            <a:ext cx="57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Comic Sans MS"/>
              </a:rPr>
              <a:t>…</a:t>
            </a:r>
            <a:r>
              <a:rPr b="1" lang="it-IT" sz="2400" spc="-1" strike="noStrike">
                <a:solidFill>
                  <a:srgbClr val="663300"/>
                </a:solidFill>
                <a:latin typeface="Comic Sans MS"/>
              </a:rPr>
              <a:t>partire, camminare, lasciare tutto,</a:t>
            </a:r>
            <a:br>
              <a:rPr sz="2400"/>
            </a:br>
            <a:r>
              <a:rPr b="1" lang="it-IT" sz="2400" spc="-1" strike="noStrike">
                <a:solidFill>
                  <a:srgbClr val="663300"/>
                </a:solidFill>
                <a:latin typeface="Comic Sans MS"/>
              </a:rPr>
              <a:t>uscire da se stess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5000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50920" y="1555200"/>
            <a:ext cx="37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rompe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 crosta di egoismo che ci chiud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nel nostro ‘io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4" descr="sol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oli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57200" y="47412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È smettere di girar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ntorno a noi stess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ome se fossimo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l centro del mondo e della 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4000"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6" descr="Immagin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mmagine1"/>
          <p:cNvPicPr/>
          <p:nvPr/>
        </p:nvPicPr>
        <p:blipFill>
          <a:blip r:embed="rId2"/>
          <a:stretch/>
        </p:blipFill>
        <p:spPr>
          <a:xfrm>
            <a:off x="0" y="120600"/>
            <a:ext cx="8820000" cy="661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406160" y="692280"/>
            <a:ext cx="49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È non lasciarsi bloccare</a:t>
            </a:r>
            <a:br>
              <a:rPr sz="2400"/>
            </a:b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dai problemi del piccolo mondo</a:t>
            </a:r>
            <a:br>
              <a:rPr sz="2400"/>
            </a:b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al quale apparteniam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Immagin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708640" y="1700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'umanità è più gran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Segnaposto contenuto 4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539240" y="620640"/>
            <a:ext cx="42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Missione è sempre partire,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ma non è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mic Sans MS"/>
              </a:rPr>
              <a:t>divorare chilometr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3000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uore-bambin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0200" y="554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6" descr="suore-bambini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370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164320" y="5445000"/>
            <a:ext cx="48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È, soprattutto, aprirsi agli altr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ome a fratelli,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è scoprirli e incontrarl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6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0"/>
                            </p:stCondLst>
                            <p:childTnLst>
                              <p:par>
                                <p:cTn id="6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Content Placeholder 3" descr="402977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017800" y="836640"/>
            <a:ext cx="51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b97"/>
                </a:solidFill>
                <a:latin typeface="Comic Sans MS"/>
              </a:rPr>
              <a:t>E, se per incontrarli e amarli</a:t>
            </a:r>
            <a:br>
              <a:rPr sz="2400"/>
            </a:br>
            <a:r>
              <a:rPr b="1" lang="it-IT" sz="2400" spc="-1" strike="noStrike">
                <a:solidFill>
                  <a:srgbClr val="ffcb97"/>
                </a:solidFill>
                <a:latin typeface="Comic Sans MS"/>
              </a:rPr>
              <a:t>è necessario attraversare i mar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54:03Z</dcterms:created>
  <dc:creator>Franca</dc:creator>
  <dc:description/>
  <dc:language>en-US</dc:language>
  <cp:lastModifiedBy>Qumran2</cp:lastModifiedBy>
  <dcterms:modified xsi:type="dcterms:W3CDTF">2011-11-02T08:44:03Z</dcterms:modified>
  <cp:revision>22</cp:revision>
  <dc:subject/>
  <dc:title>Diapositiva 1</dc:title>
</cp:coreProperties>
</file>